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D35-20C1-4A9C-BA7A-E9DA7356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8FD-133D-466E-B88A-18B0D56E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F4B-8683-414D-B2F7-C5E4E740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5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96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5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96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BC2-2D1B-425F-9651-21EED52C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3A292-908E-4108-A2E5-B7894AE385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CCF26-AE04-4039-8799-B132771A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100C0-4EA8-48C6-B0C9-A0458DA8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C2619-97C2-43CF-B4BD-56FC1C06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2CFC8-CF7D-45CD-A1CF-2D5C6907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30B6E-4CC6-4DE2-9B6A-0971A472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BF8EC-E417-4BCC-B192-04809977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765-616D-40C3-8FBF-BB5B8EDB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B3FA2-E551-46AE-87BE-D58BEC73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FAB47-BD45-42BF-9C86-3146E0BE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0F215-0183-4C01-9D4E-12D82EEB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8EBFA-BD96-415B-A94C-64E81E05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5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96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5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96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03FAD-CD38-455F-A3CD-62B7814065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3B6-A6E4-4F19-AE3B-9233F28B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43D-E27E-46AD-B152-C89D912E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661-DA79-41E1-95D5-2EB497D4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654-A24D-4E18-BE7D-0ECC9BCE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C04-BEA3-40FE-ACD1-2C5DCBB2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429-C4CC-4113-BA81-332E170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4CB-4B3C-4AF7-9994-6A8A6495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54840" y="268200"/>
            <a:ext cx="151632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38080" y="1219320"/>
            <a:ext cx="38862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13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99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99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6048-8AD4-4248-AE20-33BB6671E62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EFFD-B36D-4248-809E-C75B126472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3297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F4D2-0CA9-41F0-8420-D101802A903C}" type="datetime">
              <a:rPr b="0" lang="en-US" sz="1400" spc="-1" strike="noStrike">
                <a:solidFill>
                  <a:srgbClr val="010000"/>
                </a:solidFill>
                <a:latin typeface="Verdan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6B4F-4D57-4411-83DF-233B76EDF37D}" type="slidenum">
              <a:rPr b="0" lang="en-US" sz="1400" spc="-1" strike="noStrike">
                <a:solidFill>
                  <a:srgbClr val="01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350120" y="3187800"/>
            <a:ext cx="255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CD 202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6920" y="407880"/>
            <a:ext cx="8643960" cy="5486760"/>
            <a:chOff x="826920" y="407880"/>
            <a:chExt cx="8643960" cy="5486760"/>
          </a:xfrm>
        </p:grpSpPr>
        <p:pic>
          <p:nvPicPr>
            <p:cNvPr id="83" name="" descr=""/>
            <p:cNvPicPr/>
            <p:nvPr/>
          </p:nvPicPr>
          <p:blipFill>
            <a:blip r:embed="rId1"/>
            <a:srcRect l="3743" t="11567" r="2459" b="21248"/>
            <a:stretch/>
          </p:blipFill>
          <p:spPr>
            <a:xfrm>
              <a:off x="1158840" y="1303200"/>
              <a:ext cx="8312040" cy="44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63640" y="55101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02040" y="5572080"/>
              <a:ext cx="2555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49720" y="555948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55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02680" y="5619600"/>
              <a:ext cx="1574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11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6920" y="3379680"/>
              <a:ext cx="818676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7920" y="346392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81160" y="29685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Famil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03840" y="3122640"/>
              <a:ext cx="2555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VLT Soft Starter Famil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41320" y="407880"/>
              <a:ext cx="7039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000" spc="-1" strike="noStrike">
                  <a:solidFill>
                    <a:srgbClr val="000000"/>
                  </a:solidFill>
                  <a:latin typeface="Verdana"/>
                </a:rPr>
                <a:t>MCD 200 high resolution phot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14E-FD82-46BA-88CB-A605146DEE18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A1AE0-FEE9-4553-9C30-217EC6BE1B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8480" y="1163520"/>
            <a:ext cx="9377640" cy="4569480"/>
            <a:chOff x="528480" y="1163520"/>
            <a:chExt cx="9377640" cy="45694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3876" t="50588" r="4655" b="15475"/>
            <a:stretch/>
          </p:blipFill>
          <p:spPr>
            <a:xfrm>
              <a:off x="984240" y="1163520"/>
              <a:ext cx="8921880" cy="24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rcRect l="4769" t="58119" r="71667" b="13540"/>
            <a:stretch/>
          </p:blipFill>
          <p:spPr>
            <a:xfrm>
              <a:off x="5099040" y="3433680"/>
              <a:ext cx="2298600" cy="20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rcRect l="4913" t="24782" r="71664" b="49220"/>
            <a:stretch/>
          </p:blipFill>
          <p:spPr>
            <a:xfrm>
              <a:off x="760320" y="3532320"/>
              <a:ext cx="2284560" cy="19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14840" y="54579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11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8480" y="31719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54160" y="320184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55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40160" y="32511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55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0240" y="53499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Famil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36400" y="392040"/>
            <a:ext cx="703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Verdana"/>
              </a:rPr>
              <a:t>MCD 200 high resolution pho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16F-25AD-42F4-98F6-33D44B711F6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FE088-D794-4E08-B566-CC11C860BD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9:05:31Z</dcterms:created>
  <dc:creator>F04047</dc:creator>
  <dc:description/>
  <dc:language>en-US</dc:language>
  <cp:lastModifiedBy>f06247</cp:lastModifiedBy>
  <dcterms:modified xsi:type="dcterms:W3CDTF">2003-10-09T08:18:55Z</dcterms:modified>
  <cp:revision>12</cp:revision>
  <dc:subject>Danfoss Presentat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duct">
    <vt:lpwstr/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Korsbak Lars</vt:lpwstr>
  </property>
  <property fmtid="{D5CDD505-2E9C-101B-9397-08002B2CF9AE}" pid="7" name="display_urn:schemas-microsoft-com:office:office#Editor">
    <vt:lpwstr>Korsbak Lars</vt:lpwstr>
  </property>
  <property fmtid="{D5CDD505-2E9C-101B-9397-08002B2CF9AE}" pid="8" name="xd_ProgID">
    <vt:lpwstr/>
  </property>
  <property fmtid="{D5CDD505-2E9C-101B-9397-08002B2CF9AE}" pid="9" name="xd_Signature">
    <vt:lpwstr/>
  </property>
</Properties>
</file>